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094-2790-4C96-8277-0FB5C480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37F-CD0F-492A-BAF2-2E1FBF83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248-351B-4782-B149-78D12C5E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1F7-8F27-4E22-BDE2-6660736D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143E-C74D-46A5-9F05-D038222F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7449-58C0-474D-998C-04D75EA5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7E92-0875-492D-9119-B8930DFB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9A3B-270B-46DA-A4FD-34EE530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3AC4-7F4B-48D3-8DA0-19A5B31F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B3D9-E816-420D-95CE-0D98F00C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6BD4-B422-4FD9-888F-310D0F8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565-5868-4CFF-86B9-C9C9D51E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86A7-1E33-4B50-86FC-C7BE697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8703-B1A5-4C8B-A8B1-3C811BDC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3C6C-A378-4C40-B96F-E0ACF536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5317-8B7E-47B0-9570-28BF1AAA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5F7C-2EF7-442B-B4FD-56C3DECC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7D7-0446-43B8-AE7E-97A70130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261-A707-4719-897A-E8DD42D8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DE2-0521-4654-B3D3-8BDE2764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B3D-A740-4271-8B05-DB78A47D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03D-C48B-4BDA-B116-06AC0D0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D95-01E4-4F0E-BD5B-0BA42EF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260-D432-435A-BB80-85F73E37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B8E-5246-4E71-BFDA-487C83E3729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50E9-6F30-426E-926F-F9EC9CA1781D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3333"/>
                </a:solidFill>
                <a:latin typeface="Adobe Garamond Pro Bold"/>
              </a:rPr>
              <a:t>Farhan jave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7086600" cy="19810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untry         :: Pakista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Me in class    ::</a:t>
            </a:r>
            <a:r>
              <a:rPr b="0" lang="es-ES" sz="2800" spc="-1" strike="noStrike">
                <a:solidFill>
                  <a:srgbClr val="333333"/>
                </a:solidFill>
                <a:latin typeface="Arial"/>
              </a:rPr>
              <a:t> 10th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Arial"/>
              </a:rPr>
              <a:t>My interest</a:t>
            </a:r>
            <a:r>
              <a:rPr b="0" lang="es-ES" sz="2800" spc="-1" strike="noStrike">
                <a:solidFill>
                  <a:srgbClr val="333333"/>
                </a:solidFill>
                <a:latin typeface="Arial"/>
              </a:rPr>
              <a:t>    :: bycyle, tato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My favourite subject</a:t>
            </a:r>
            <a:r>
              <a:rPr b="0" lang="es-ES" sz="2800" spc="-1" strike="noStrike">
                <a:solidFill>
                  <a:srgbClr val="333333"/>
                </a:solidFill>
                <a:latin typeface="Arial"/>
              </a:rPr>
              <a:t>:: scie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pakistan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5:47Z</dcterms:modified>
  <cp:revision>23</cp:revision>
  <dc:subject/>
  <dc:title>MR. HAROON </dc:title>
</cp:coreProperties>
</file>